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C476-B5DB-43CE-A463-91811820726A}"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move the slide</a:t>
            </a:r>
            <a:endParaRPr b="0" lang="en-US" sz="4800" spc="-1" strike="noStrike">
              <a:solidFill>
                <a:srgbClr val="404040"/>
              </a:solidFill>
              <a:latin typeface="Calisto MT"/>
            </a:endParaRPr>
          </a:p>
        </p:txBody>
      </p:sp>
      <p:sp>
        <p:nvSpPr>
          <p:cNvPr id="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8"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F77B-D707-435D-8E73-2CBAB684124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70EF-56D4-40CD-B2C2-3F6091342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2ABE-7937-4C95-B4D0-6B46A7CA4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5EC3B-1C99-4525-9EFC-F9E2F376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59BC2-DE52-479E-B996-58CB7BF80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EEC5FA1-548F-4176-9AE6-B08AE77633F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F88803C-50BE-4F51-A603-13B472E59C8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7533C41-75CC-4595-8575-A1610797FAE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F66CC9-7E87-46E9-97CC-19B99016B9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0931C2-9AE9-486A-B662-A67F8CF9DE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84DF800-9C95-4662-BF9A-73880A693B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E7E05A8-03CB-4CA9-BEB4-A996B3FA03D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84446C9-9558-492D-BA8A-5744BA1A211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08E22A3-1853-47EA-B4CE-E77AD839DB3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2B5587B-CD82-4BE6-8B9D-EA2953671BE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CD0DA-DB03-4E3A-BE84-B4F5E8B9D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3FCAD7A-30F0-4508-B45A-68F011FD13D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B288F24-9B91-4C3D-A090-184584B0E8B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EB396CF-E161-4944-A178-5F8CAA23DD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F0F030B-A90A-470F-84EC-BE999FC0741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D476214-863E-468E-B932-8A7B617121F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660F4DB-9433-4DB3-A719-02CF18FE9DA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5AB3822-A9AE-44D5-B2EB-1ACC7BD3CEE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7D8CF7-39F7-408B-80F4-EC5038C85A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F242EF-0590-4282-8754-7DEAA6594F6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5BBBBDB-B71B-4D5B-8543-4047C461B99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CCF24-FEB5-4B89-81EB-81BA17AA0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4239905-A2AD-4841-8618-6432619B1C1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609E42D-2CD8-4DF9-8C6A-4B32525BD2C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87FF212-2099-4CE1-9780-00B03F37DE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E3400E4-1F6C-46AF-833F-988976272A4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98D0DD0-B9AB-45CE-AE9A-7FBF64F30D0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FD77844-C474-4CC4-B6D4-E834E082C63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5BF899-7717-4B2B-B1E6-27A8EA4FE60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B68D84A-64D3-4317-88D1-0372823C2D8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1B242F-7B67-4D51-B7EF-22E18CA5995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A0F6E03-F196-4E45-ACE3-9E3E9A44B23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6112E-FC0F-4925-A89E-05FFA1DEA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0E37154-9247-4E6A-B574-CD019C4887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2B2D7B7-2479-4526-B8C1-00DE12C9F04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CDC17AB-FE17-47D8-8021-198EE0D0D68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DEC2F8B-D7BF-4C8F-9255-A3A7FFADF79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5"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3336880-E374-4754-A574-EC03FFF2952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7"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E02F5FB-517B-4147-BAD9-95FE422EC9B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4D9D321-C27C-433E-977F-69422292378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721A7F8-775D-4838-AD1A-E24611A768B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AEFEF1F-3C79-4A2F-9551-7C1B1804E5E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E8C9D0C-F4CE-4076-A83E-90049CD0F48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1C0FE-4E2E-4D0B-9BC2-77EE39B0F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0"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FEE0EF6-7723-48B6-9CC4-A5247AAEE5C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4"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A19DACE-ECF8-4019-9599-AB0C84D1712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6"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7"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061B868-ED94-49CE-89D5-EEB06D16BC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2"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A38861E-CC02-47CC-A279-2C6E2B431EF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4"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5"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6"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7"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8"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9"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CD45122-E4F9-4884-B8BB-183BCD5F480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596F3FD-6C2F-4EF1-B619-962B962A529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25FFEB0-DF29-4936-9991-3B8ADFCD110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8A55546-4130-48C1-B2B5-E173058F74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77EA0CD-D30D-4517-90BF-7E527AA1A57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6293FA3-792A-4BC3-A90F-826D68CB557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06635-888A-430F-88D0-9410713AC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F750320-456D-4B60-A365-4C093594BCE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54D90E1-EF72-4416-ABFF-BBBC613AEB6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D2122CD-B631-4351-B9B4-3D070257FBD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E6BE511-4083-4A4B-9153-513D5791359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8BC8268-1947-403E-867F-609315D51E2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839C8C4-3D0E-4ED7-8409-EBFD1D634FC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0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8058537-BF3B-4DB1-BEFF-50CA98D7555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EB74EDB-6455-4AA2-B133-62248DFA810D}"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6CAC2D9-B425-40FF-A64F-0B47B15E4F0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EFF8B8F-8FEF-4990-AE92-98852B1FA2F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75189-FF08-4576-8FD9-83E218FB5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14FB416-536C-42FF-A8CF-33F37B45D5D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2ABDD5E-88B6-460A-BA2D-F56B178C4EE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8461874-C4F3-4C59-AEA9-556FD813675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CC94B29-8851-4521-B2E8-BEF53C94BEB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6589D01-7A7D-4F29-841B-2F17DC15713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25FC181-77CB-48B7-8734-4CF8079A2B3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E814E60-6D75-483B-9FC3-7CD5E70CAB4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578411E-D82A-42CB-916C-43468444A7C8}"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6C53076-0E87-4428-B3CF-D1710E22FC88}"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AE246F7B-1AD5-4C14-A299-689AE91BE9A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DE636-6151-4C0D-9E43-439850600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6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844D794-0E31-47E1-BEC5-198FE5DE1D3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D042B4A-873E-4F5D-9271-6BB86D5FFFC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8A367C1-ACD4-464D-B7E6-0C6BBC3391B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26C1C9D-6B3F-4241-9358-581DE6AB512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8AE760A-6371-4B16-933B-7603AA1FC7C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99B7608-ED94-4CB9-825A-46F1CBF776E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AC68A4C-BEBD-44CA-9CA1-06393B40EDC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85FCA8D-032B-4B1A-B57B-4692871B36B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74B8DBB-46C4-4C50-9152-A369F1E872E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5DFF5BA0-AF47-449C-854B-169DD72EAD0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5E20A-3DB2-4990-A4A9-4A033F6AC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989DC10-7AD9-4A83-8947-E3EE6857F79E}"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77575-6AB2-495F-9872-521289B3B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99B7-ABA3-4AAD-8DDC-8B6E16EF1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7A9CE-949C-4E0C-AE27-2FCAC11C6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E31FD-ED79-4BFD-8FDF-E62E9BAA5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3"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4"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5DBD0-0C03-4FDA-AC34-60A8EBD81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9"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B55D2-F531-4116-A58D-7DE7C42F0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1"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2"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3"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4"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5"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6"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EC326-A8BF-421A-9741-698D238CF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7DC221-34FB-4909-A8C4-FFE1F82AB9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9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F2245-C0B7-4C56-AF76-C7B05654B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672D4-A550-4B1C-AD07-8D8920827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30D25-11EF-4F02-AA00-D34A34ECB5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1DEDD-D9D7-4C96-96FA-660DB57B6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579E1-AF52-49E6-A1A3-0C76435C9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0644D-D03D-4646-84B0-41A56F401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27356-0686-4D9F-BB2C-85E917F5A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11296-9446-4E0F-AC3B-9E7E6BBD8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6629D-3F2D-4ACF-83D3-736E753FE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3AC91-6F36-446B-BD8F-1CB3B983E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411E5-8478-461F-8394-6781D01D5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C96B54-5821-43F2-9DDD-14654A1AE2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38764-5C50-47DA-9D4F-1D0CE90BF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4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7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73FA8BE-80FB-4819-AEA1-C6AA46973E3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99FAA-9B44-4ABF-9A84-88826AD0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9AF64E-8834-4562-88B2-580CE08BA97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51D696-5D93-4BEF-B985-B4DA536A29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9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81AB78-096B-4D8E-B9A0-6DFB79DABB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2D8F3F2-7823-4907-B5EC-779AA4BE6C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4D0B98-6DC1-4195-8D33-58FB49D270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5F256A-ADA8-4469-B340-2D0161B5F8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526853-7476-4A19-9594-49453C0019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B92AC2-70CB-4C98-AAF5-0522C19C5A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D9EBEE-7D8A-462C-8B3D-40C134D121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2418DC-03B0-405C-911A-9786AB69A05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DDB1F-A4A8-4004-A391-3D90B315E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4A79623-15C3-4571-A8DE-BD1B5088876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7639190-83C3-4F16-A3EF-E79861F49BE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C6D7E98-C84E-4210-A6E6-AB6D042B8B4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D1B48FA-4F3C-4A29-ACA0-6975E0E174F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AD5856A-A02F-4166-B7CC-1F8F0F344A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E5D4DF-CA97-4189-96F3-3617B3C701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9546349-6399-4A44-B3F1-FCE9C95FC9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56627C-339B-4FFD-922E-0C2D5AF80C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C91CF8-6CA1-40EB-81C2-A5095FB153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9AEE923-03DD-4A83-B849-F648D10A49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A7358-7EA1-4531-8CC4-88851737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99CE73E-CD72-4943-95A8-978558248D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9D00C5-AB3C-4663-A009-FF23E665F2B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8280604-C59E-4930-B8DE-A5CF78EF2D3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1D17DD9-C566-46FB-92C3-3EAF440FD73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D10CE0-65BA-41F5-A06F-84293B5F21E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1CB620-C647-43C1-96D6-BF716E826BE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CB13A1-B7A2-464D-A961-A32AEEA2912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3CBB14A-6A6F-462E-9E08-4D578602349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926167-7305-4F2C-AB20-73F2EEDA58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9A532A-071B-4555-8F9C-34D8B5DCAA0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58A7-6DC7-4D35-93EC-684993BE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D44F7C-379C-4292-8C06-9BE76B3A58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E3960E-549F-4439-BCA1-295008F222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0BF0F16-F472-46F8-8028-0838DDAC090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3C15E52-3144-46B0-A988-85853E7BBB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EC3431F-FAC1-4B98-AF50-EC0BD753069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E8E4E44-356B-4258-8326-DC905791E22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2877BB9-1BEB-400B-89E8-27B030E72D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0D4FE9-11A6-4B01-B5F3-7E34528190B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8744438-B429-4085-AA46-74DE74810CA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6C4AA24-490E-4254-8C9B-32C6CAD7037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C9A2-84BD-4872-AF19-9454399E2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E299C0-6F95-4C61-B4C7-D199CA3765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49299C-EC45-44D4-9E3E-C21A902591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25991C-3B24-43F3-ADF7-16C580DF10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286E38-51A2-4A5E-B086-A4AFE3470B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A3D254-94F6-4AF4-BFBF-2D9535DD2F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29D5657-3A18-4276-AD2E-7400E5CC757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6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2C947F3-DA04-4AC7-BFBE-2BE30DD82EA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A923C58-AC27-43CB-BDAC-5AA92F569AC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7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A96AED-1176-4622-9001-66774DBB346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ACCEDC-3D77-44CD-9440-21DCE85392A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 name="PlaceHolder 3"/>
          <p:cNvSpPr>
            <a:spLocks noGrp="1"/>
          </p:cNvSpPr>
          <p:nvPr>
            <p:ph type="dt" idx="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D9A6-1BD8-4D5C-8F37-7A312C9FD93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7675-D2A2-4A39-ACE5-0F775BF6FC1E}"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4" name="Group 33"/>
          <p:cNvGrpSpPr/>
          <p:nvPr/>
        </p:nvGrpSpPr>
        <p:grpSpPr>
          <a:xfrm>
            <a:off x="182520" y="173160"/>
            <a:ext cx="8778960" cy="6511680"/>
            <a:chOff x="182520" y="173160"/>
            <a:chExt cx="8778960" cy="6511680"/>
          </a:xfrm>
        </p:grpSpPr>
        <p:grpSp>
          <p:nvGrpSpPr>
            <p:cNvPr id="415" name="Group 26"/>
            <p:cNvGrpSpPr/>
            <p:nvPr/>
          </p:nvGrpSpPr>
          <p:grpSpPr>
            <a:xfrm>
              <a:off x="182520" y="173160"/>
              <a:ext cx="8778960" cy="6511680"/>
              <a:chOff x="182520" y="173160"/>
              <a:chExt cx="8778960" cy="6511680"/>
            </a:xfrm>
          </p:grpSpPr>
          <p:pic>
            <p:nvPicPr>
              <p:cNvPr id="416" name="Picture 9" descr="PaperPanel-Base.jpg"/>
              <p:cNvPicPr/>
              <p:nvPr/>
            </p:nvPicPr>
            <p:blipFill>
              <a:blip r:embed="rId3"/>
              <a:stretch/>
            </p:blipFill>
            <p:spPr>
              <a:xfrm>
                <a:off x="182520" y="173160"/>
                <a:ext cx="8778960" cy="6511680"/>
              </a:xfrm>
              <a:prstGeom prst="rect">
                <a:avLst/>
              </a:prstGeom>
              <a:ln w="0">
                <a:noFill/>
              </a:ln>
            </p:spPr>
          </p:pic>
          <p:grpSp>
            <p:nvGrpSpPr>
              <p:cNvPr id="417" name="Group 10"/>
              <p:cNvGrpSpPr/>
              <p:nvPr/>
            </p:nvGrpSpPr>
            <p:grpSpPr>
              <a:xfrm>
                <a:off x="378000" y="349560"/>
                <a:ext cx="8384760" cy="6146640"/>
                <a:chOff x="378000" y="349560"/>
                <a:chExt cx="8384760" cy="6146640"/>
              </a:xfrm>
            </p:grpSpPr>
            <p:sp>
              <p:nvSpPr>
                <p:cNvPr id="418" name="Rectangle 11"/>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Straight Connector 12"/>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20" name="Rectangle 8"/>
            <p:cNvSpPr/>
            <p:nvPr/>
          </p:nvSpPr>
          <p:spPr>
            <a:xfrm rot="5400000">
              <a:off x="799560" y="3274200"/>
              <a:ext cx="6136920" cy="63720"/>
            </a:xfrm>
            <a:prstGeom prst="rect">
              <a:avLst/>
            </a:prstGeom>
            <a:solidFill>
              <a:srgbClr val="cbd2d5"/>
            </a:solidFill>
            <a:ln w="3240">
              <a:solidFill>
                <a:srgbClr val="d1d0c8"/>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2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23" name="PlaceHolder 3"/>
          <p:cNvSpPr>
            <a:spLocks noGrp="1"/>
          </p:cNvSpPr>
          <p:nvPr>
            <p:ph type="dt" idx="2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AFA6-B56E-4561-AAFD-5F8ED5B78431}"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24" name="PlaceHolder 4"/>
          <p:cNvSpPr>
            <a:spLocks noGrp="1"/>
          </p:cNvSpPr>
          <p:nvPr>
            <p:ph type="ftr" idx="2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25" name="PlaceHolder 5"/>
          <p:cNvSpPr>
            <a:spLocks noGrp="1"/>
          </p:cNvSpPr>
          <p:nvPr>
            <p:ph type="sldNum" idx="2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F6C7-AC40-46EF-AF43-B534CC9156D7}"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2" name="Group 33"/>
          <p:cNvGrpSpPr/>
          <p:nvPr/>
        </p:nvGrpSpPr>
        <p:grpSpPr>
          <a:xfrm>
            <a:off x="182520" y="173160"/>
            <a:ext cx="8778960" cy="6511680"/>
            <a:chOff x="182520" y="173160"/>
            <a:chExt cx="8778960" cy="6511680"/>
          </a:xfrm>
        </p:grpSpPr>
        <p:grpSp>
          <p:nvGrpSpPr>
            <p:cNvPr id="463" name="Group 26"/>
            <p:cNvGrpSpPr/>
            <p:nvPr/>
          </p:nvGrpSpPr>
          <p:grpSpPr>
            <a:xfrm>
              <a:off x="182520" y="173160"/>
              <a:ext cx="8778960" cy="6511680"/>
              <a:chOff x="182520" y="173160"/>
              <a:chExt cx="8778960" cy="6511680"/>
            </a:xfrm>
          </p:grpSpPr>
          <p:pic>
            <p:nvPicPr>
              <p:cNvPr id="464" name="Picture 9" descr="PaperPanel-Base.jpg"/>
              <p:cNvPicPr/>
              <p:nvPr/>
            </p:nvPicPr>
            <p:blipFill>
              <a:blip r:embed="rId3"/>
              <a:stretch/>
            </p:blipFill>
            <p:spPr>
              <a:xfrm>
                <a:off x="182520" y="173160"/>
                <a:ext cx="8778960" cy="6511680"/>
              </a:xfrm>
              <a:prstGeom prst="rect">
                <a:avLst/>
              </a:prstGeom>
              <a:ln w="0">
                <a:noFill/>
              </a:ln>
            </p:spPr>
          </p:pic>
          <p:grpSp>
            <p:nvGrpSpPr>
              <p:cNvPr id="465" name="Group 10"/>
              <p:cNvGrpSpPr/>
              <p:nvPr/>
            </p:nvGrpSpPr>
            <p:grpSpPr>
              <a:xfrm>
                <a:off x="378000" y="349560"/>
                <a:ext cx="8384760" cy="6146640"/>
                <a:chOff x="378000" y="349560"/>
                <a:chExt cx="8384760" cy="6146640"/>
              </a:xfrm>
            </p:grpSpPr>
            <p:sp>
              <p:nvSpPr>
                <p:cNvPr id="466" name="Rectangle 11"/>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Straight Connector 12"/>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68" name="Rectangle 8"/>
            <p:cNvSpPr/>
            <p:nvPr/>
          </p:nvSpPr>
          <p:spPr>
            <a:xfrm rot="5400000">
              <a:off x="799560" y="3274200"/>
              <a:ext cx="6136920" cy="63720"/>
            </a:xfrm>
            <a:prstGeom prst="rect">
              <a:avLst/>
            </a:prstGeom>
            <a:solidFill>
              <a:srgbClr val="cbd2d5"/>
            </a:solidFill>
            <a:ln w="3240">
              <a:solidFill>
                <a:srgbClr val="d1d0c8"/>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9" name="Rectangle 13"/>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14"/>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73" name="PlaceHolder 3"/>
          <p:cNvSpPr>
            <a:spLocks noGrp="1"/>
          </p:cNvSpPr>
          <p:nvPr>
            <p:ph type="dt" idx="30"/>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21CC-B7BA-4CFD-B068-05D45E5C1F77}"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74" name="PlaceHolder 4"/>
          <p:cNvSpPr>
            <a:spLocks noGrp="1"/>
          </p:cNvSpPr>
          <p:nvPr>
            <p:ph type="ftr" idx="31"/>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75" name="PlaceHolder 5"/>
          <p:cNvSpPr>
            <a:spLocks noGrp="1"/>
          </p:cNvSpPr>
          <p:nvPr>
            <p:ph type="sldNum" idx="32"/>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823B-6F6B-4FA7-9340-82E5ED69A004}"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2" name="Group 32"/>
          <p:cNvGrpSpPr/>
          <p:nvPr/>
        </p:nvGrpSpPr>
        <p:grpSpPr>
          <a:xfrm>
            <a:off x="182520" y="173160"/>
            <a:ext cx="8778960" cy="6511680"/>
            <a:chOff x="182520" y="173160"/>
            <a:chExt cx="8778960" cy="6511680"/>
          </a:xfrm>
        </p:grpSpPr>
        <p:grpSp>
          <p:nvGrpSpPr>
            <p:cNvPr id="513" name="Group 26"/>
            <p:cNvGrpSpPr/>
            <p:nvPr/>
          </p:nvGrpSpPr>
          <p:grpSpPr>
            <a:xfrm>
              <a:off x="182520" y="173160"/>
              <a:ext cx="8778960" cy="6511680"/>
              <a:chOff x="182520" y="173160"/>
              <a:chExt cx="8778960" cy="6511680"/>
            </a:xfrm>
          </p:grpSpPr>
          <p:pic>
            <p:nvPicPr>
              <p:cNvPr id="514" name="Picture 9" descr="PaperPanel-Base.jpg"/>
              <p:cNvPicPr/>
              <p:nvPr/>
            </p:nvPicPr>
            <p:blipFill>
              <a:blip r:embed="rId3"/>
              <a:stretch/>
            </p:blipFill>
            <p:spPr>
              <a:xfrm>
                <a:off x="182520" y="173160"/>
                <a:ext cx="8778960" cy="6511680"/>
              </a:xfrm>
              <a:prstGeom prst="rect">
                <a:avLst/>
              </a:prstGeom>
              <a:ln w="0">
                <a:noFill/>
              </a:ln>
            </p:spPr>
          </p:pic>
          <p:grpSp>
            <p:nvGrpSpPr>
              <p:cNvPr id="515" name="Group 10"/>
              <p:cNvGrpSpPr/>
              <p:nvPr/>
            </p:nvGrpSpPr>
            <p:grpSpPr>
              <a:xfrm>
                <a:off x="378000" y="349560"/>
                <a:ext cx="8384760" cy="6146640"/>
                <a:chOff x="378000" y="349560"/>
                <a:chExt cx="8384760" cy="6146640"/>
              </a:xfrm>
            </p:grpSpPr>
            <p:sp>
              <p:nvSpPr>
                <p:cNvPr id="516" name="Rectangle 11"/>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traight Connector 12"/>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18" name="Rectangle 8"/>
            <p:cNvSpPr/>
            <p:nvPr/>
          </p:nvSpPr>
          <p:spPr>
            <a:xfrm rot="5400000">
              <a:off x="799560" y="3274200"/>
              <a:ext cx="6136920" cy="63720"/>
            </a:xfrm>
            <a:prstGeom prst="rect">
              <a:avLst/>
            </a:prstGeom>
            <a:solidFill>
              <a:srgbClr val="cbd2d5"/>
            </a:solidFill>
            <a:ln w="3240">
              <a:solidFill>
                <a:srgbClr val="d1d0c8"/>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2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21" name="PlaceHolder 3"/>
          <p:cNvSpPr>
            <a:spLocks noGrp="1"/>
          </p:cNvSpPr>
          <p:nvPr>
            <p:ph type="dt" idx="33"/>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232C-DFED-4085-A4EE-E34051DF7367}"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22" name="PlaceHolder 4"/>
          <p:cNvSpPr>
            <a:spLocks noGrp="1"/>
          </p:cNvSpPr>
          <p:nvPr>
            <p:ph type="ftr" idx="34"/>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23" name="PlaceHolder 5"/>
          <p:cNvSpPr>
            <a:spLocks noGrp="1"/>
          </p:cNvSpPr>
          <p:nvPr>
            <p:ph type="sldNum" idx="35"/>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BDEB-4046-4722-B319-130582103AFC}"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0" name="Group 26"/>
          <p:cNvGrpSpPr/>
          <p:nvPr/>
        </p:nvGrpSpPr>
        <p:grpSpPr>
          <a:xfrm>
            <a:off x="182520" y="173160"/>
            <a:ext cx="8778960" cy="6511680"/>
            <a:chOff x="182520" y="173160"/>
            <a:chExt cx="8778960" cy="6511680"/>
          </a:xfrm>
        </p:grpSpPr>
        <p:pic>
          <p:nvPicPr>
            <p:cNvPr id="561" name="Picture 7" descr="PaperPanel-Base.jpg"/>
            <p:cNvPicPr/>
            <p:nvPr/>
          </p:nvPicPr>
          <p:blipFill>
            <a:blip r:embed="rId3"/>
            <a:stretch/>
          </p:blipFill>
          <p:spPr>
            <a:xfrm>
              <a:off x="182520" y="173160"/>
              <a:ext cx="8778960" cy="6511680"/>
            </a:xfrm>
            <a:prstGeom prst="rect">
              <a:avLst/>
            </a:prstGeom>
            <a:ln w="0">
              <a:noFill/>
            </a:ln>
          </p:spPr>
        </p:pic>
        <p:grpSp>
          <p:nvGrpSpPr>
            <p:cNvPr id="562" name="Group 10"/>
            <p:cNvGrpSpPr/>
            <p:nvPr/>
          </p:nvGrpSpPr>
          <p:grpSpPr>
            <a:xfrm>
              <a:off x="378000" y="349560"/>
              <a:ext cx="8384760" cy="6146640"/>
              <a:chOff x="378000" y="349560"/>
              <a:chExt cx="8384760" cy="6146640"/>
            </a:xfrm>
          </p:grpSpPr>
          <p:sp>
            <p:nvSpPr>
              <p:cNvPr id="563"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65" name="Rectangle 11"/>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12"/>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6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69" name="PlaceHolder 3"/>
          <p:cNvSpPr>
            <a:spLocks noGrp="1"/>
          </p:cNvSpPr>
          <p:nvPr>
            <p:ph type="dt" idx="36"/>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C565-AC8F-41D2-A346-E2C9364D2402}"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70" name="PlaceHolder 4"/>
          <p:cNvSpPr>
            <a:spLocks noGrp="1"/>
          </p:cNvSpPr>
          <p:nvPr>
            <p:ph type="ftr" idx="37"/>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71" name="PlaceHolder 5"/>
          <p:cNvSpPr>
            <a:spLocks noGrp="1"/>
          </p:cNvSpPr>
          <p:nvPr>
            <p:ph type="sldNum" idx="38"/>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2349-85CB-4C83-9201-70D454AA6BD8}"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8" name="Group 19"/>
          <p:cNvGrpSpPr/>
          <p:nvPr/>
        </p:nvGrpSpPr>
        <p:grpSpPr>
          <a:xfrm>
            <a:off x="182520" y="173160"/>
            <a:ext cx="8778960" cy="6511680"/>
            <a:chOff x="182520" y="173160"/>
            <a:chExt cx="8778960" cy="6511680"/>
          </a:xfrm>
        </p:grpSpPr>
        <p:pic>
          <p:nvPicPr>
            <p:cNvPr id="609" name="Picture 7" descr="PaperPanel-Base.jpg"/>
            <p:cNvPicPr/>
            <p:nvPr/>
          </p:nvPicPr>
          <p:blipFill>
            <a:blip r:embed="rId3"/>
            <a:stretch/>
          </p:blipFill>
          <p:spPr>
            <a:xfrm>
              <a:off x="182520" y="173160"/>
              <a:ext cx="8778960" cy="6511680"/>
            </a:xfrm>
            <a:prstGeom prst="rect">
              <a:avLst/>
            </a:prstGeom>
            <a:ln w="0">
              <a:noFill/>
            </a:ln>
          </p:spPr>
        </p:pic>
        <p:grpSp>
          <p:nvGrpSpPr>
            <p:cNvPr id="610" name="Group 10"/>
            <p:cNvGrpSpPr/>
            <p:nvPr/>
          </p:nvGrpSpPr>
          <p:grpSpPr>
            <a:xfrm>
              <a:off x="378000" y="349560"/>
              <a:ext cx="8384760" cy="6146640"/>
              <a:chOff x="378000" y="349560"/>
              <a:chExt cx="8384760" cy="6146640"/>
            </a:xfrm>
          </p:grpSpPr>
          <p:sp>
            <p:nvSpPr>
              <p:cNvPr id="611"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3"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1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16" name="PlaceHolder 3"/>
          <p:cNvSpPr>
            <a:spLocks noGrp="1"/>
          </p:cNvSpPr>
          <p:nvPr>
            <p:ph type="dt" idx="39"/>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E90A-001A-44B1-9717-FB8E8E5070A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17" name="PlaceHolder 4"/>
          <p:cNvSpPr>
            <a:spLocks noGrp="1"/>
          </p:cNvSpPr>
          <p:nvPr>
            <p:ph type="ftr" idx="40"/>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18" name="PlaceHolder 5"/>
          <p:cNvSpPr>
            <a:spLocks noGrp="1"/>
          </p:cNvSpPr>
          <p:nvPr>
            <p:ph type="sldNum" idx="41"/>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3FD8-3899-4196-9640-AFCD39CA8906}"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5" name="Group 19"/>
          <p:cNvGrpSpPr/>
          <p:nvPr/>
        </p:nvGrpSpPr>
        <p:grpSpPr>
          <a:xfrm>
            <a:off x="182520" y="173160"/>
            <a:ext cx="8778960" cy="6511680"/>
            <a:chOff x="182520" y="173160"/>
            <a:chExt cx="8778960" cy="6511680"/>
          </a:xfrm>
        </p:grpSpPr>
        <p:pic>
          <p:nvPicPr>
            <p:cNvPr id="656" name="Picture 7" descr="PaperPanel-Base.jpg"/>
            <p:cNvPicPr/>
            <p:nvPr/>
          </p:nvPicPr>
          <p:blipFill>
            <a:blip r:embed="rId3"/>
            <a:stretch/>
          </p:blipFill>
          <p:spPr>
            <a:xfrm>
              <a:off x="182520" y="173160"/>
              <a:ext cx="8778960" cy="6511680"/>
            </a:xfrm>
            <a:prstGeom prst="rect">
              <a:avLst/>
            </a:prstGeom>
            <a:ln w="0">
              <a:noFill/>
            </a:ln>
          </p:spPr>
        </p:pic>
        <p:grpSp>
          <p:nvGrpSpPr>
            <p:cNvPr id="657" name="Group 10"/>
            <p:cNvGrpSpPr/>
            <p:nvPr/>
          </p:nvGrpSpPr>
          <p:grpSpPr>
            <a:xfrm>
              <a:off x="378000" y="349560"/>
              <a:ext cx="8384760" cy="6146640"/>
              <a:chOff x="378000" y="349560"/>
              <a:chExt cx="8384760" cy="6146640"/>
            </a:xfrm>
          </p:grpSpPr>
          <p:sp>
            <p:nvSpPr>
              <p:cNvPr id="658"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660" name="Rectangle 11"/>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Rectangle 12"/>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6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64" name="PlaceHolder 3"/>
          <p:cNvSpPr>
            <a:spLocks noGrp="1"/>
          </p:cNvSpPr>
          <p:nvPr>
            <p:ph type="dt" idx="4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EB84-DBB9-4922-A009-86AEB1F3369C}"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65" name="PlaceHolder 4"/>
          <p:cNvSpPr>
            <a:spLocks noGrp="1"/>
          </p:cNvSpPr>
          <p:nvPr>
            <p:ph type="ftr" idx="4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66" name="PlaceHolder 5"/>
          <p:cNvSpPr>
            <a:spLocks noGrp="1"/>
          </p:cNvSpPr>
          <p:nvPr>
            <p:ph type="sldNum" idx="4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3112-019A-4ECE-A007-8D06AD41ADA7}"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7"/>
          <p:cNvGrpSpPr/>
          <p:nvPr/>
        </p:nvGrpSpPr>
        <p:grpSpPr>
          <a:xfrm>
            <a:off x="487440" y="411120"/>
            <a:ext cx="8169120" cy="6035760"/>
            <a:chOff x="487440" y="411120"/>
            <a:chExt cx="8169120" cy="6035760"/>
          </a:xfrm>
        </p:grpSpPr>
        <p:pic>
          <p:nvPicPr>
            <p:cNvPr id="42" name="Picture 7" descr="PaperPanel-Title.jpg"/>
            <p:cNvPicPr/>
            <p:nvPr/>
          </p:nvPicPr>
          <p:blipFill>
            <a:blip r:embed="rId3"/>
            <a:stretch/>
          </p:blipFill>
          <p:spPr>
            <a:xfrm>
              <a:off x="487440" y="411120"/>
              <a:ext cx="8169120" cy="6035760"/>
            </a:xfrm>
            <a:prstGeom prst="rect">
              <a:avLst/>
            </a:prstGeom>
            <a:ln w="0">
              <a:noFill/>
            </a:ln>
          </p:spPr>
        </p:pic>
        <p:sp>
          <p:nvSpPr>
            <p:cNvPr id="43" name="Rectangle 8"/>
            <p:cNvSpPr/>
            <p:nvPr/>
          </p:nvSpPr>
          <p:spPr>
            <a:xfrm>
              <a:off x="684360" y="581400"/>
              <a:ext cx="7746480" cy="568296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Straight Connector 9"/>
            <p:cNvSpPr/>
            <p:nvPr/>
          </p:nvSpPr>
          <p:spPr>
            <a:xfrm>
              <a:off x="684360" y="6042240"/>
              <a:ext cx="7746480" cy="1080"/>
            </a:xfrm>
            <a:prstGeom prst="line">
              <a:avLst/>
            </a:prstGeom>
            <a:ln w="12600">
              <a:solidFill>
                <a:srgbClr val="bebd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45" name="Rectangle 10"/>
            <p:cNvSpPr/>
            <p:nvPr/>
          </p:nvSpPr>
          <p:spPr>
            <a:xfrm>
              <a:off x="684360" y="563760"/>
              <a:ext cx="7746480" cy="2488320"/>
            </a:xfrm>
            <a:prstGeom prst="rect">
              <a:avLst/>
            </a:prstGeom>
            <a:solidFill>
              <a:srgbClr val="cbd2d5"/>
            </a:solidFill>
            <a:ln w="3240">
              <a:solidFill>
                <a:srgbClr val="d1d0c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8" name="PlaceHolder 3"/>
          <p:cNvSpPr>
            <a:spLocks noGrp="1"/>
          </p:cNvSpPr>
          <p:nvPr>
            <p:ph type="dt" idx="4"/>
          </p:nvPr>
        </p:nvSpPr>
        <p:spPr>
          <a:xfrm>
            <a:off x="57276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7B27-2C38-4AD8-AC56-A3E450ACD7FC}"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5638680" y="6122520"/>
            <a:ext cx="2895840" cy="257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4191120" y="612288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4DF8-ACDD-47D8-851E-4F2BE7895D19}"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15"/>
          <p:cNvGrpSpPr/>
          <p:nvPr/>
        </p:nvGrpSpPr>
        <p:grpSpPr>
          <a:xfrm>
            <a:off x="182520" y="173160"/>
            <a:ext cx="8778960" cy="6511680"/>
            <a:chOff x="182520" y="173160"/>
            <a:chExt cx="8778960" cy="6511680"/>
          </a:xfrm>
        </p:grpSpPr>
        <p:pic>
          <p:nvPicPr>
            <p:cNvPr id="88" name="Picture 7" descr="PaperPanel-Base.jpg"/>
            <p:cNvPicPr/>
            <p:nvPr/>
          </p:nvPicPr>
          <p:blipFill>
            <a:blip r:embed="rId3"/>
            <a:stretch/>
          </p:blipFill>
          <p:spPr>
            <a:xfrm>
              <a:off x="182520" y="173160"/>
              <a:ext cx="8778960" cy="6511680"/>
            </a:xfrm>
            <a:prstGeom prst="rect">
              <a:avLst/>
            </a:prstGeom>
            <a:ln w="0">
              <a:noFill/>
            </a:ln>
          </p:spPr>
        </p:pic>
        <p:grpSp>
          <p:nvGrpSpPr>
            <p:cNvPr id="89" name="Group 10"/>
            <p:cNvGrpSpPr/>
            <p:nvPr/>
          </p:nvGrpSpPr>
          <p:grpSpPr>
            <a:xfrm>
              <a:off x="378000" y="349560"/>
              <a:ext cx="8384760" cy="6146640"/>
              <a:chOff x="378000" y="349560"/>
              <a:chExt cx="8384760" cy="6146640"/>
            </a:xfrm>
          </p:grpSpPr>
          <p:sp>
            <p:nvSpPr>
              <p:cNvPr id="90"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9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95" name="PlaceHolder 3"/>
          <p:cNvSpPr>
            <a:spLocks noGrp="1"/>
          </p:cNvSpPr>
          <p:nvPr>
            <p:ph type="dt" idx="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F9C4-EBB6-446D-AC7E-290B1E486608}"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97" name="PlaceHolder 5"/>
          <p:cNvSpPr>
            <a:spLocks noGrp="1"/>
          </p:cNvSpPr>
          <p:nvPr>
            <p:ph type="sldNum" idx="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0C1E-B831-4DD7-99BF-F0336C8D8C9F}"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4" name="Picture 6" descr="PaperPanel-Title.jpg"/>
          <p:cNvPicPr/>
          <p:nvPr/>
        </p:nvPicPr>
        <p:blipFill>
          <a:blip r:embed="rId3"/>
          <a:stretch/>
        </p:blipFill>
        <p:spPr>
          <a:xfrm>
            <a:off x="360360" y="298440"/>
            <a:ext cx="8418600" cy="6254640"/>
          </a:xfrm>
          <a:prstGeom prst="rect">
            <a:avLst/>
          </a:prstGeom>
          <a:ln w="0">
            <a:noFill/>
          </a:ln>
        </p:spPr>
      </p:pic>
      <p:grpSp>
        <p:nvGrpSpPr>
          <p:cNvPr id="135" name="Group 11"/>
          <p:cNvGrpSpPr/>
          <p:nvPr/>
        </p:nvGrpSpPr>
        <p:grpSpPr>
          <a:xfrm>
            <a:off x="563400" y="476280"/>
            <a:ext cx="7982280" cy="5888160"/>
            <a:chOff x="563400" y="476280"/>
            <a:chExt cx="7982280" cy="5888160"/>
          </a:xfrm>
        </p:grpSpPr>
        <p:sp>
          <p:nvSpPr>
            <p:cNvPr id="136" name="Rectangle 8"/>
            <p:cNvSpPr/>
            <p:nvPr/>
          </p:nvSpPr>
          <p:spPr>
            <a:xfrm>
              <a:off x="563400" y="476280"/>
              <a:ext cx="7982280" cy="588816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traight Connector 9"/>
            <p:cNvSpPr/>
            <p:nvPr/>
          </p:nvSpPr>
          <p:spPr>
            <a:xfrm>
              <a:off x="563400" y="613404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Straight Connector 10"/>
            <p:cNvSpPr/>
            <p:nvPr/>
          </p:nvSpPr>
          <p:spPr>
            <a:xfrm>
              <a:off x="563400" y="342792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4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41" name="PlaceHolder 3"/>
          <p:cNvSpPr>
            <a:spLocks noGrp="1"/>
          </p:cNvSpPr>
          <p:nvPr>
            <p:ph type="dt" idx="10"/>
          </p:nvPr>
        </p:nvSpPr>
        <p:spPr>
          <a:xfrm>
            <a:off x="56952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112B-F8DF-4D10-8185-CD7E55035EA8}"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5638680" y="6124680"/>
            <a:ext cx="289584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23"/>
          <p:cNvGrpSpPr/>
          <p:nvPr/>
        </p:nvGrpSpPr>
        <p:grpSpPr>
          <a:xfrm>
            <a:off x="182520" y="173160"/>
            <a:ext cx="8778960" cy="6511680"/>
            <a:chOff x="182520" y="173160"/>
            <a:chExt cx="8778960" cy="6511680"/>
          </a:xfrm>
        </p:grpSpPr>
        <p:pic>
          <p:nvPicPr>
            <p:cNvPr id="180" name="Picture 7" descr="PaperPanel-Base.jpg"/>
            <p:cNvPicPr/>
            <p:nvPr/>
          </p:nvPicPr>
          <p:blipFill>
            <a:blip r:embed="rId3"/>
            <a:stretch/>
          </p:blipFill>
          <p:spPr>
            <a:xfrm>
              <a:off x="182520" y="173160"/>
              <a:ext cx="8778960" cy="6511680"/>
            </a:xfrm>
            <a:prstGeom prst="rect">
              <a:avLst/>
            </a:prstGeom>
            <a:ln w="0">
              <a:noFill/>
            </a:ln>
          </p:spPr>
        </p:pic>
        <p:grpSp>
          <p:nvGrpSpPr>
            <p:cNvPr id="181" name="Group 10"/>
            <p:cNvGrpSpPr/>
            <p:nvPr/>
          </p:nvGrpSpPr>
          <p:grpSpPr>
            <a:xfrm>
              <a:off x="378000" y="349560"/>
              <a:ext cx="8384760" cy="6146640"/>
              <a:chOff x="378000" y="349560"/>
              <a:chExt cx="8384760" cy="6146640"/>
            </a:xfrm>
          </p:grpSpPr>
          <p:sp>
            <p:nvSpPr>
              <p:cNvPr id="182"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1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8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86" name="PlaceHolder 3"/>
          <p:cNvSpPr>
            <a:spLocks noGrp="1"/>
          </p:cNvSpPr>
          <p:nvPr>
            <p:ph type="dt" idx="1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2E65-C272-46DE-820C-E259814C5AAE}"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87" name="PlaceHolder 4"/>
          <p:cNvSpPr>
            <a:spLocks noGrp="1"/>
          </p:cNvSpPr>
          <p:nvPr>
            <p:ph type="ftr" idx="1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188" name="PlaceHolder 5"/>
          <p:cNvSpPr>
            <a:spLocks noGrp="1"/>
          </p:cNvSpPr>
          <p:nvPr>
            <p:ph type="sldNum" idx="1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5487-9EB6-4409-9CBC-2571749C4F37}"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Group 13"/>
          <p:cNvGrpSpPr/>
          <p:nvPr/>
        </p:nvGrpSpPr>
        <p:grpSpPr>
          <a:xfrm>
            <a:off x="182520" y="173160"/>
            <a:ext cx="8778960" cy="6511680"/>
            <a:chOff x="182520" y="173160"/>
            <a:chExt cx="8778960" cy="6511680"/>
          </a:xfrm>
        </p:grpSpPr>
        <p:pic>
          <p:nvPicPr>
            <p:cNvPr id="226" name="Picture 7" descr="PaperPanel-Base.jpg"/>
            <p:cNvPicPr/>
            <p:nvPr/>
          </p:nvPicPr>
          <p:blipFill>
            <a:blip r:embed="rId3"/>
            <a:stretch/>
          </p:blipFill>
          <p:spPr>
            <a:xfrm>
              <a:off x="182520" y="173160"/>
              <a:ext cx="8778960" cy="6511680"/>
            </a:xfrm>
            <a:prstGeom prst="rect">
              <a:avLst/>
            </a:prstGeom>
            <a:ln w="0">
              <a:noFill/>
            </a:ln>
          </p:spPr>
        </p:pic>
        <p:grpSp>
          <p:nvGrpSpPr>
            <p:cNvPr id="227" name="Group 10"/>
            <p:cNvGrpSpPr/>
            <p:nvPr/>
          </p:nvGrpSpPr>
          <p:grpSpPr>
            <a:xfrm>
              <a:off x="378000" y="349560"/>
              <a:ext cx="8384760" cy="6146640"/>
              <a:chOff x="378000" y="349560"/>
              <a:chExt cx="8384760" cy="6146640"/>
            </a:xfrm>
          </p:grpSpPr>
          <p:sp>
            <p:nvSpPr>
              <p:cNvPr id="228"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3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33" name="PlaceHolder 3"/>
          <p:cNvSpPr>
            <a:spLocks noGrp="1"/>
          </p:cNvSpPr>
          <p:nvPr>
            <p:ph type="dt" idx="15"/>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C62F-3A0D-432C-9CC3-EEF2D6C646E7}"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34" name="PlaceHolder 4"/>
          <p:cNvSpPr>
            <a:spLocks noGrp="1"/>
          </p:cNvSpPr>
          <p:nvPr>
            <p:ph type="ftr" idx="16"/>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35" name="PlaceHolder 5"/>
          <p:cNvSpPr>
            <a:spLocks noGrp="1"/>
          </p:cNvSpPr>
          <p:nvPr>
            <p:ph type="sldNum" idx="17"/>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582E-3E78-4252-9ECF-9F762F9BA8BC}"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Group 16"/>
          <p:cNvGrpSpPr/>
          <p:nvPr/>
        </p:nvGrpSpPr>
        <p:grpSpPr>
          <a:xfrm>
            <a:off x="182520" y="173160"/>
            <a:ext cx="8778960" cy="6511680"/>
            <a:chOff x="182520" y="173160"/>
            <a:chExt cx="8778960" cy="6511680"/>
          </a:xfrm>
        </p:grpSpPr>
        <p:pic>
          <p:nvPicPr>
            <p:cNvPr id="273" name="Picture 7" descr="PaperPanel-Base.jpg"/>
            <p:cNvPicPr/>
            <p:nvPr/>
          </p:nvPicPr>
          <p:blipFill>
            <a:blip r:embed="rId3"/>
            <a:stretch/>
          </p:blipFill>
          <p:spPr>
            <a:xfrm>
              <a:off x="182520" y="173160"/>
              <a:ext cx="8778960" cy="6511680"/>
            </a:xfrm>
            <a:prstGeom prst="rect">
              <a:avLst/>
            </a:prstGeom>
            <a:ln w="0">
              <a:noFill/>
            </a:ln>
          </p:spPr>
        </p:pic>
        <p:grpSp>
          <p:nvGrpSpPr>
            <p:cNvPr id="274" name="Group 8"/>
            <p:cNvGrpSpPr/>
            <p:nvPr/>
          </p:nvGrpSpPr>
          <p:grpSpPr>
            <a:xfrm>
              <a:off x="378000" y="349560"/>
              <a:ext cx="8384760" cy="6146640"/>
              <a:chOff x="378000" y="349560"/>
              <a:chExt cx="8384760" cy="6146640"/>
            </a:xfrm>
          </p:grpSpPr>
          <p:sp>
            <p:nvSpPr>
              <p:cNvPr id="275"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78" name="Straight Connector 12"/>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13"/>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8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82" name="PlaceHolder 3"/>
          <p:cNvSpPr>
            <a:spLocks noGrp="1"/>
          </p:cNvSpPr>
          <p:nvPr>
            <p:ph type="dt" idx="18"/>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8C7D-89B0-4F06-8B50-3EEC1831879A}"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83" name="PlaceHolder 4"/>
          <p:cNvSpPr>
            <a:spLocks noGrp="1"/>
          </p:cNvSpPr>
          <p:nvPr>
            <p:ph type="ftr" idx="19"/>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84" name="PlaceHolder 5"/>
          <p:cNvSpPr>
            <a:spLocks noGrp="1"/>
          </p:cNvSpPr>
          <p:nvPr>
            <p:ph type="sldNum" idx="20"/>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50EE-927E-4536-84FE-177DD1A580B0}"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1" name="Group 18"/>
          <p:cNvGrpSpPr/>
          <p:nvPr/>
        </p:nvGrpSpPr>
        <p:grpSpPr>
          <a:xfrm>
            <a:off x="182520" y="173160"/>
            <a:ext cx="8778960" cy="6511680"/>
            <a:chOff x="182520" y="173160"/>
            <a:chExt cx="8778960" cy="6511680"/>
          </a:xfrm>
        </p:grpSpPr>
        <p:pic>
          <p:nvPicPr>
            <p:cNvPr id="322" name="Picture 7" descr="PaperPanel-Base.jpg"/>
            <p:cNvPicPr/>
            <p:nvPr/>
          </p:nvPicPr>
          <p:blipFill>
            <a:blip r:embed="rId3"/>
            <a:stretch/>
          </p:blipFill>
          <p:spPr>
            <a:xfrm>
              <a:off x="182520" y="173160"/>
              <a:ext cx="8778960" cy="6511680"/>
            </a:xfrm>
            <a:prstGeom prst="rect">
              <a:avLst/>
            </a:prstGeom>
            <a:ln w="0">
              <a:noFill/>
            </a:ln>
          </p:spPr>
        </p:pic>
        <p:grpSp>
          <p:nvGrpSpPr>
            <p:cNvPr id="323" name="Group 10"/>
            <p:cNvGrpSpPr/>
            <p:nvPr/>
          </p:nvGrpSpPr>
          <p:grpSpPr>
            <a:xfrm>
              <a:off x="378000" y="349560"/>
              <a:ext cx="8384760" cy="6146640"/>
              <a:chOff x="378000" y="349560"/>
              <a:chExt cx="8384760" cy="6146640"/>
            </a:xfrm>
          </p:grpSpPr>
          <p:sp>
            <p:nvSpPr>
              <p:cNvPr id="324"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6"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2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29" name="PlaceHolder 3"/>
          <p:cNvSpPr>
            <a:spLocks noGrp="1"/>
          </p:cNvSpPr>
          <p:nvPr>
            <p:ph type="dt" idx="2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8F8E-FE68-49D7-BE15-12DD7A39AE10}"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30" name="PlaceHolder 4"/>
          <p:cNvSpPr>
            <a:spLocks noGrp="1"/>
          </p:cNvSpPr>
          <p:nvPr>
            <p:ph type="ftr" idx="2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31" name="PlaceHolder 5"/>
          <p:cNvSpPr>
            <a:spLocks noGrp="1"/>
          </p:cNvSpPr>
          <p:nvPr>
            <p:ph type="sldNum" idx="2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B840-800A-42BB-9AEC-408E2C81B1F5}"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8" name="Group 17"/>
          <p:cNvGrpSpPr/>
          <p:nvPr/>
        </p:nvGrpSpPr>
        <p:grpSpPr>
          <a:xfrm>
            <a:off x="182520" y="173160"/>
            <a:ext cx="8778960" cy="6511680"/>
            <a:chOff x="182520" y="173160"/>
            <a:chExt cx="8778960" cy="6511680"/>
          </a:xfrm>
        </p:grpSpPr>
        <p:pic>
          <p:nvPicPr>
            <p:cNvPr id="369" name="Picture 7" descr="PaperPanel-Base.jpg"/>
            <p:cNvPicPr/>
            <p:nvPr/>
          </p:nvPicPr>
          <p:blipFill>
            <a:blip r:embed="rId3"/>
            <a:stretch/>
          </p:blipFill>
          <p:spPr>
            <a:xfrm>
              <a:off x="182520" y="173160"/>
              <a:ext cx="8778960" cy="6511680"/>
            </a:xfrm>
            <a:prstGeom prst="rect">
              <a:avLst/>
            </a:prstGeom>
            <a:ln w="0">
              <a:noFill/>
            </a:ln>
          </p:spPr>
        </p:pic>
        <p:grpSp>
          <p:nvGrpSpPr>
            <p:cNvPr id="370" name="Group 10"/>
            <p:cNvGrpSpPr/>
            <p:nvPr/>
          </p:nvGrpSpPr>
          <p:grpSpPr>
            <a:xfrm>
              <a:off x="378000" y="349560"/>
              <a:ext cx="8384760" cy="6146640"/>
              <a:chOff x="378000" y="349560"/>
              <a:chExt cx="8384760" cy="6146640"/>
            </a:xfrm>
          </p:grpSpPr>
          <p:sp>
            <p:nvSpPr>
              <p:cNvPr id="371"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3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7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75" name="PlaceHolder 3"/>
          <p:cNvSpPr>
            <a:spLocks noGrp="1"/>
          </p:cNvSpPr>
          <p:nvPr>
            <p:ph type="dt" idx="24"/>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96A7-08C4-4A2B-8D72-08AB96A5039D}"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76" name="PlaceHolder 4"/>
          <p:cNvSpPr>
            <a:spLocks noGrp="1"/>
          </p:cNvSpPr>
          <p:nvPr>
            <p:ph type="ftr" idx="25"/>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77" name="PlaceHolder 5"/>
          <p:cNvSpPr>
            <a:spLocks noGrp="1"/>
          </p:cNvSpPr>
          <p:nvPr>
            <p:ph type="sldNum" idx="26"/>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A742-5FBA-4FC2-8120-5DC8C47AB83E}"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466640"/>
            <a:ext cx="7772400" cy="135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Calisto MT"/>
              </a:rPr>
              <a:t>The Threat Environment:</a:t>
            </a:r>
            <a:br>
              <a:rPr sz="4900"/>
            </a:br>
            <a:r>
              <a:rPr b="0" lang="en-US" sz="4900" spc="-1" strike="noStrike">
                <a:solidFill>
                  <a:srgbClr val="404040"/>
                </a:solidFill>
                <a:latin typeface="Calisto MT"/>
              </a:rPr>
              <a:t>Attackers and Their Attacks</a:t>
            </a:r>
            <a:endParaRPr b="0" lang="en-US" sz="4900" spc="-1" strike="noStrike">
              <a:solidFill>
                <a:srgbClr val="404040"/>
              </a:solidFill>
              <a:latin typeface="Calisto MT"/>
            </a:endParaRPr>
          </a:p>
        </p:txBody>
      </p:sp>
      <p:sp>
        <p:nvSpPr>
          <p:cNvPr id="711" name="PlaceHolder 2"/>
          <p:cNvSpPr>
            <a:spLocks noGrp="1"/>
          </p:cNvSpPr>
          <p:nvPr>
            <p:ph type="subTitle"/>
          </p:nvPr>
        </p:nvSpPr>
        <p:spPr>
          <a:xfrm>
            <a:off x="685800" y="3600360"/>
            <a:ext cx="7772400" cy="12002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hapter 1</a:t>
            </a:r>
            <a:endParaRPr b="0" lang="en-US" sz="2000" spc="-1" strike="noStrike">
              <a:solidFill>
                <a:srgbClr val="404040"/>
              </a:solidFill>
              <a:latin typeface="Calisto MT"/>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4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JX Companies, Inc. (TJX)</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roup of more than 2,500 retail stores companies operating in the United States, Canada, England, Ireland, and several other countr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es business under such names as TJ Maxx and Marshal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4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9E04-C090-4E81-AA88-202F1F52687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 December 18, 2006, TJX detected “suspicious software” on its computer syste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lled in security experts who confirmed an intrusion and probable data los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ified law enforcement immediate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y notified consumers a month later to get time to fix system and to allow law enforcement to investigate</a:t>
            </a:r>
            <a:endParaRPr b="0" lang="en-US" sz="2200" spc="-1" strike="noStrike">
              <a:solidFill>
                <a:srgbClr val="404040"/>
              </a:solidFill>
              <a:latin typeface="Calisto MT"/>
            </a:endParaRPr>
          </a:p>
        </p:txBody>
      </p:sp>
      <p:sp>
        <p:nvSpPr>
          <p:cNvPr id="75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8112-6998-431C-8F95-A3A3790BFF7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wo waves of attacks, in 2005 and 2006</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any estimated that 45.7 million records with limited personal information inclu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ch more information was stolen on 455,000 of these custom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5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517B-56A9-4E6E-B4EB-49252F70E4F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0"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Break-In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roke into poorly protected wireless networks in retail stor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d this entry to break into central processing system in Massachuset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 detected despite long presence, 80 GB data exfilt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adian privacy commission: poor encryption, keeping data that should not have been kep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C2F8-0921-4D4B-BEA6-52C9489EB76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4"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Payment Card Industry-Data Security Standard (PCI-DS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ules for companies that accept credit card purchas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f noncompliant, can lose the ability to process credit card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12 required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knew it was not in compliance (later found to meet only 3 of 12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gave an extension to TJX in 2005, subject to progress report in June 2006</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D26C-41E0-4F64-A4E1-B9F23E91B9C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8"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Fall-Out: Lawsuits and Investigation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ttled with most banks and banking associations for $40.9 million to cover card reissuing and other cos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levied $880,000 fine, which may later have been increased or decreas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posed settlement with consum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nder investigation by U.S. Federal Trade Commission and 37 state attorneys gener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has prepared for damages of $256 million as of August 2007</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1975-AF94-4286-B868-ABA5E79B87D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sto MT"/>
              </a:rPr>
              <a:t>1-3: Employee and Ex-Employee Threats</a:t>
            </a:r>
            <a:endParaRPr b="0" lang="en-US" sz="3200" spc="-1" strike="noStrike">
              <a:solidFill>
                <a:srgbClr val="404040"/>
              </a:solidFill>
              <a:latin typeface="Calisto MT"/>
            </a:endParaRPr>
          </a:p>
        </p:txBody>
      </p:sp>
      <p:sp>
        <p:nvSpPr>
          <p:cNvPr id="77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s and Ex-Employees Are Dangerou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angerous becaus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have knowledge of internal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have the permissions to access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know how to avoid detec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ployees generally are trusted</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T and especially IT security professionals are the greatest employee threats (</a:t>
            </a:r>
            <a:r>
              <a:rPr b="0" i="1" lang="en-US" sz="2200" spc="-1" strike="noStrike">
                <a:solidFill>
                  <a:srgbClr val="404040"/>
                </a:solidFill>
                <a:latin typeface="Calisto MT"/>
              </a:rPr>
              <a:t>Qui custodiet custod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7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C400-2512-406A-8765-08ED793BDB8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76"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Sabot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struction of hardware, software, or data</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lant time bomb or logic bomb on computer</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Hacking</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acking is intentionally accessing a computer resource without authorization or in excess of authoriz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uthorization is the key</a:t>
            </a:r>
            <a:endParaRPr b="0" lang="en-US" sz="2200" spc="-1" strike="noStrike">
              <a:solidFill>
                <a:srgbClr val="404040"/>
              </a:solidFill>
              <a:latin typeface="Calisto MT"/>
            </a:endParaRPr>
          </a:p>
        </p:txBody>
      </p:sp>
      <p:sp>
        <p:nvSpPr>
          <p:cNvPr id="77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E25B-112C-443E-B8BD-8E9471F6E5F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80"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Financial Theft</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isappropriation of asse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ft of money</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ck in the late ‘80s or early 90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ny of this boils down to good internal controls; Separation of Duti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Theft of Intellectual Property (IP)</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pyrights and patents (formally protect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s: plans, product formulations, business processes, and other info that a company wishes to keep secret from competitors</a:t>
            </a:r>
            <a:endParaRPr b="0" lang="en-US" sz="2200" spc="-1" strike="noStrike">
              <a:solidFill>
                <a:srgbClr val="404040"/>
              </a:solidFill>
              <a:latin typeface="Calisto MT"/>
            </a:endParaRPr>
          </a:p>
        </p:txBody>
      </p:sp>
      <p:sp>
        <p:nvSpPr>
          <p:cNvPr id="78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8CD0-A485-4A7F-9470-C7760E1CE27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84"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Extortion</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erpetrator tries to obtain money or other goods by threatening to take actions that would be against the victim’s interest </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xual or Racial Harassment of Other Employee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a e-mai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playing pornographic materi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FCC7-E47D-45B8-A521-D8938A6D9A8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Orientation</a:t>
            </a:r>
            <a:endParaRPr b="0" lang="en-US" sz="4800" spc="-1" strike="noStrike">
              <a:solidFill>
                <a:srgbClr val="404040"/>
              </a:solidFill>
              <a:latin typeface="Calisto MT"/>
            </a:endParaRPr>
          </a:p>
        </p:txBody>
      </p:sp>
      <p:sp>
        <p:nvSpPr>
          <p:cNvPr id="713" name=""/>
          <p:cNvSpPr txBox="1"/>
          <p:nvPr/>
        </p:nvSpPr>
        <p:spPr>
          <a:xfrm>
            <a:off x="457200" y="1752120"/>
            <a:ext cx="8229600" cy="44197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s is a book about security defense, not how to att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fense is too complex to focus the book mostly on specific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However, this first chapter looks at the threat environment—attackers and their attack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Unless you understand the threats you face, you cannot prepare for defense</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All subsequent chapters focus on defense</a:t>
            </a:r>
            <a:endParaRPr b="0" lang="en-US" sz="2400" spc="-1" strike="noStrike">
              <a:solidFill>
                <a:srgbClr val="404040"/>
              </a:solidFill>
              <a:latin typeface="Calisto MT"/>
            </a:endParaRPr>
          </a:p>
        </p:txBody>
      </p:sp>
      <p:sp>
        <p:nvSpPr>
          <p:cNvPr id="71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DCA5-D8DD-4929-80BC-A24D1EB105B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88"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Internet Abus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ornography, which can lead to sexual harassment lawsuits and virus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irated software, music, and video, which can lead to copyright violation penalt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cessive personal use of the Internet at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6189-2EA6-44EB-9C9F-515CFBA1A64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92"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arelessne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oss of computers or data media containing sensitive inform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eless leading to the theft of such information</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Other “Internal” Att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ntract wor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rkers in contracting compan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57AE-76DF-4EBD-8815-F9AE74D3B7C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796"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eneric name for any “evil softwar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Viru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grams that attach themselves to legitimate programs on the victim’s machin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pread today primarily by e-mail</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by instant messaging, file transfer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9B4D-C452-4C2F-9619-20348586094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800"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Worm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Full programs that do not attach themselves to other progra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ike viruses, can spread by e-mail, instant messaging, and file transf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p:txBody>
      </p:sp>
      <p:sp>
        <p:nvSpPr>
          <p:cNvPr id="80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ACCD-0995-44E6-8585-2DC159B06AC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804"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irect-propagation worms can jump from one computer to another without human intervention on the receiving computer</a:t>
            </a:r>
            <a:endParaRPr b="0" lang="en-US" sz="24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 must have a vulnerability for direct propagation to work (STUXNET)</a:t>
            </a:r>
            <a:endParaRPr b="0" lang="en-US" sz="22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rect-propagation worms can spread extremely rapidly because they do not have to wait for users to a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DB6D-C9FC-48DB-BD13-32BEC2DC2F9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808" name=""/>
          <p:cNvSpPr txBox="1"/>
          <p:nvPr/>
        </p:nvSpPr>
        <p:spPr>
          <a:xfrm>
            <a:off x="457200" y="1676160"/>
            <a:ext cx="8229600" cy="433044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lended Threat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ybrid Virus/Worm</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Payload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ieces of code that do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mplemented by viruses and worms after propagatio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licious payloads are designed to do heavy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694B-8000-4FD6-BCAF-89C4625FC34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Current Threat Environment</a:t>
            </a:r>
            <a:endParaRPr b="0" lang="en-US" sz="4300" spc="-1" strike="noStrike">
              <a:solidFill>
                <a:srgbClr val="404040"/>
              </a:solidFill>
              <a:latin typeface="Calisto MT"/>
            </a:endParaRPr>
          </a:p>
        </p:txBody>
      </p:sp>
      <p:sp>
        <p:nvSpPr>
          <p:cNvPr id="81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M86 Securit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ymantec.Cloud Messagelab</a:t>
            </a:r>
            <a:endParaRPr b="0" lang="en-US" sz="2400" spc="-1" strike="noStrike">
              <a:solidFill>
                <a:srgbClr val="404040"/>
              </a:solidFill>
              <a:latin typeface="Calisto MT"/>
            </a:endParaRPr>
          </a:p>
        </p:txBody>
      </p:sp>
      <p:sp>
        <p:nvSpPr>
          <p:cNvPr id="81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C080-0D61-4FA6-B1D5-C621466BF28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1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Nonmobile 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st be placed on the user’s computer through one of a growing number of attack techniqu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hack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virus or worm as part of its payload</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victim can be enticed to download the program from a website or FTP sit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obile code executed on a webpage can download the nonmobile mal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1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18AF-B716-431C-AD4A-86EDC86EC44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20" name=""/>
          <p:cNvSpPr txBox="1"/>
          <p:nvPr/>
        </p:nvSpPr>
        <p:spPr>
          <a:xfrm>
            <a:off x="457200" y="1904760"/>
            <a:ext cx="8229600" cy="42670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program that replaces an existing system file, taking its nam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mote Access Trojans (RAT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motely control the victim’s PC</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er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mall Trojan horses that download larger Trojan horses after the downloader is installed</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38D3-D36A-44D1-BB93-20233E6F81D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24" name=""/>
          <p:cNvSpPr txBox="1"/>
          <p:nvPr/>
        </p:nvSpPr>
        <p:spPr>
          <a:xfrm>
            <a:off x="457200" y="182880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pyware</a:t>
            </a:r>
            <a:endParaRPr b="0" lang="en-US" sz="24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ograms that gather information about you and make it available to the adversary</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okies that store too much sensitive personal informa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Keystroke logg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ssword-stealing spywar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ata mining spy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0852-3543-405E-BCB2-A3672ADB406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Defenders Dilemma</a:t>
            </a:r>
            <a:endParaRPr b="0" lang="en-US" sz="4800" spc="-1" strike="noStrike">
              <a:solidFill>
                <a:srgbClr val="404040"/>
              </a:solidFill>
              <a:latin typeface="Calisto MT"/>
            </a:endParaRPr>
          </a:p>
        </p:txBody>
      </p:sp>
      <p:sp>
        <p:nvSpPr>
          <p:cNvPr id="71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efense is always harder because you have to be perfect, where attackers only have to find one flaw. </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8"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9"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CE82-AB05-4566-9134-8BB34AD3097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2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Rootkits</a:t>
            </a:r>
            <a:endParaRPr b="0" lang="en-US" sz="24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ake control of the super user account (root, administrator, etc.)</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themselves from file syste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malware fro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xtremely difficult to detect (ordinary antivirus programs find few rootkits)</a:t>
            </a:r>
            <a:endParaRPr b="0" lang="en-US" sz="2000" spc="-1" strike="noStrike">
              <a:solidFill>
                <a:srgbClr val="404040"/>
              </a:solidFill>
              <a:latin typeface="Calisto MT"/>
            </a:endParaRPr>
          </a:p>
        </p:txBody>
      </p:sp>
      <p:sp>
        <p:nvSpPr>
          <p:cNvPr id="82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1DA3-0148-408A-9498-CD5E2085B00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obile Cod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ecutable code on a webp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de is executed automatically when the webpage is downloa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Javascript, Microsoft Active-X control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do damage if computer has vulner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708F-E3A7-4EBE-B964-6F974AB2C92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6"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 in Malware</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attempting to trick users into doing something that goes against security polici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veral types of malware use social engineering</a:t>
            </a:r>
            <a:endParaRPr b="0" lang="en-US" sz="22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am</a:t>
            </a:r>
            <a:endParaRPr b="0" lang="en-US" sz="20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hishing</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Fool victim to giving out sensitive information</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ear phishing (aimed at individuals or specific groups)</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HBGary</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oaxes</a:t>
            </a:r>
            <a:endParaRPr b="0" lang="en-US" sz="20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BA21-B9B0-4278-BBA0-42E1A272C5A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40"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aditional H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by thrill, validation of skills, sense of pow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to increase reputation among other hac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do damage as a byprodu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engage in petty crim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65DE-A6F6-4CA4-93E1-D6C5C2D4D95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4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connaissance probes (Figure 1-8)</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P address scans to identify possible victi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ort scans to learn which services are open on each potential victim host</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2CBB-376F-4448-8B4F-27F517EB937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8: Probe and Exploit Attack Packets</a:t>
            </a:r>
            <a:endParaRPr b="0" lang="en-US" sz="4300" spc="-1" strike="noStrike">
              <a:solidFill>
                <a:srgbClr val="404040"/>
              </a:solidFill>
              <a:latin typeface="Calisto MT"/>
            </a:endParaRPr>
          </a:p>
        </p:txBody>
      </p:sp>
      <p:sp>
        <p:nvSpPr>
          <p:cNvPr id="84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3248-432F-425D-AEC3-E61BE114C62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50" name="Picture 11" descr="S2C01F05 Probes and Exploit"/>
          <p:cNvPicPr/>
          <p:nvPr/>
        </p:nvPicPr>
        <p:blipFill>
          <a:blip r:embed="rId2"/>
          <a:stretch/>
        </p:blipFill>
        <p:spPr>
          <a:xfrm>
            <a:off x="2971800" y="1752480"/>
            <a:ext cx="5832360" cy="4206960"/>
          </a:xfrm>
          <a:prstGeom prst="rect">
            <a:avLst/>
          </a:prstGeom>
          <a:ln w="0">
            <a:noFill/>
          </a:ln>
        </p:spPr>
      </p:pic>
      <p:sp>
        <p:nvSpPr>
          <p:cNvPr id="851" name="TextBox 6"/>
          <p:cNvSpPr/>
          <p:nvPr/>
        </p:nvSpPr>
        <p:spPr>
          <a:xfrm>
            <a:off x="545400" y="2057400"/>
            <a:ext cx="2388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Pr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Sniffer Search</a:t>
            </a:r>
            <a:endParaRPr b="0" lang="en-US" sz="1800" spc="-1" strike="noStrike">
              <a:solidFill>
                <a:srgbClr val="000000"/>
              </a:solidFill>
              <a:latin typeface="Arial"/>
            </a:endParaRPr>
          </a:p>
        </p:txBody>
      </p:sp>
      <p:sp>
        <p:nvSpPr>
          <p:cNvPr id="852" name="TextBox 7"/>
          <p:cNvSpPr/>
          <p:nvPr/>
        </p:nvSpPr>
        <p:spPr>
          <a:xfrm>
            <a:off x="685800" y="3429000"/>
            <a:ext cx="2057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ose SYN TCP messages, or the ICMP echo and echo replies within IP Pac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5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exploi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pecific attack method that the attacker uses to break into the computer is called the attacker’s exploi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act of implementing the exploit is called exploiting the hos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Exploit Database (yes it can be this eas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5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4721-1584-49CC-8F7D-C4A248C310D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9: Source IP Address Spoofing</a:t>
            </a:r>
            <a:endParaRPr b="0" lang="en-US" sz="4300" spc="-1" strike="noStrike">
              <a:solidFill>
                <a:srgbClr val="404040"/>
              </a:solidFill>
              <a:latin typeface="Calisto MT"/>
            </a:endParaRPr>
          </a:p>
        </p:txBody>
      </p:sp>
      <p:sp>
        <p:nvSpPr>
          <p:cNvPr id="85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147D-29C4-49FE-B0F7-3027DD5EF98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0" name="Picture 12" descr="S2C01F06 Spoofing"/>
          <p:cNvPicPr/>
          <p:nvPr/>
        </p:nvPicPr>
        <p:blipFill>
          <a:blip r:embed="rId2"/>
          <a:stretch/>
        </p:blipFill>
        <p:spPr>
          <a:xfrm>
            <a:off x="152280" y="1752480"/>
            <a:ext cx="891864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62" name=""/>
          <p:cNvSpPr txBox="1"/>
          <p:nvPr/>
        </p:nvSpPr>
        <p:spPr>
          <a:xfrm>
            <a:off x="457200" y="1752120"/>
            <a:ext cx="8229600" cy="44197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hain of attack computers (Spoofing Work-around)</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attacker attacks through a chain of victim comput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be and exploit packets contain the source IP address of the last computer in the chai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final attack computer receives replies and passes them back to the attack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the victim can trace the attack back to the final attack comput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ut the attack usually can only be traced back a few computers more</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6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05E8-12BD-4F4C-B22D-AC3BB0E879D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0: Chain of Attack Computers</a:t>
            </a:r>
            <a:endParaRPr b="0" lang="en-US" sz="4300" spc="-1" strike="noStrike">
              <a:solidFill>
                <a:srgbClr val="404040"/>
              </a:solidFill>
              <a:latin typeface="Calisto MT"/>
            </a:endParaRPr>
          </a:p>
        </p:txBody>
      </p:sp>
      <p:sp>
        <p:nvSpPr>
          <p:cNvPr id="86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9F40-A571-4534-B615-492AF9323B0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8" name="Picture 13" descr="S2C01F07 Chain of Attack Hosts"/>
          <p:cNvPicPr/>
          <p:nvPr/>
        </p:nvPicPr>
        <p:blipFill>
          <a:blip r:embed="rId2"/>
          <a:stretch/>
        </p:blipFill>
        <p:spPr>
          <a:xfrm>
            <a:off x="228600" y="1066680"/>
            <a:ext cx="8610480" cy="4191120"/>
          </a:xfrm>
          <a:prstGeom prst="rect">
            <a:avLst/>
          </a:prstGeom>
          <a:ln w="0">
            <a:noFill/>
          </a:ln>
        </p:spPr>
      </p:pic>
      <p:sp>
        <p:nvSpPr>
          <p:cNvPr id="869" name="Rectangle 5"/>
          <p:cNvSpPr/>
          <p:nvPr/>
        </p:nvSpPr>
        <p:spPr>
          <a:xfrm>
            <a:off x="914400" y="3886200"/>
            <a:ext cx="3962520" cy="2743200"/>
          </a:xfrm>
          <a:prstGeom prst="rect">
            <a:avLst/>
          </a:prstGeom>
          <a:gradFill rotWithShape="0">
            <a:gsLst>
              <a:gs pos="0">
                <a:srgbClr val="d6f3ff"/>
              </a:gs>
              <a:gs pos="100000">
                <a:srgbClr val="95d4ee"/>
              </a:gs>
            </a:gsLst>
            <a:lin ang="5400000"/>
          </a:gradFill>
          <a:ln w="9360">
            <a:solidFill>
              <a:srgbClr val="4b5a60"/>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probes whose replies mu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 received, attacker se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bes through a chain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tack computer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ictim only knows the ident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 the last compromised h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3.125.33.101)</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t that of the attac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21"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hreat Environmen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threat environment consists of the types of attackers and attacks that companies fa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ternet connects millions of computer networks together.</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ecurity of what is stored on anyone computer on the millions of networks is contingent on the security of every other connected computer.</a:t>
            </a:r>
            <a:endParaRPr b="0" lang="en-US" sz="2000" spc="-1" strike="noStrike">
              <a:solidFill>
                <a:srgbClr val="404040"/>
              </a:solidFill>
              <a:latin typeface="Calisto MT"/>
            </a:endParaRPr>
          </a:p>
        </p:txBody>
      </p:sp>
      <p:sp>
        <p:nvSpPr>
          <p:cNvPr id="72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D562-40E7-4008-B36A-1C30D3DD309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Hacks against Batteries???</a:t>
            </a:r>
            <a:endParaRPr b="0" lang="en-US" sz="4800" spc="-1" strike="noStrike">
              <a:solidFill>
                <a:srgbClr val="404040"/>
              </a:solidFill>
              <a:latin typeface="Calisto MT"/>
            </a:endParaRPr>
          </a:p>
        </p:txBody>
      </p:sp>
      <p:sp>
        <p:nvSpPr>
          <p:cNvPr id="871"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harlie Mill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pple Battery Hack</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make modifications to the firmware that runs on the main chip on the smart battery.</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You can make it do whatever you want because Apple used default passwords on the chips (made by Texas Instruments).</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Code you put there would survive reinstallation of the OS, new hard drives, new mother- boards, and so on.</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However, the code cannot directly affect the OS or hard drive, so in order for it to be malware, it would have to attack the OS through some kind of vulnerability in the way the OS handles messages from the battery. </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sto MT"/>
            </a:endParaRPr>
          </a:p>
        </p:txBody>
      </p:sp>
      <p:sp>
        <p:nvSpPr>
          <p:cNvPr id="872"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3"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E50B-7CAC-4026-ABA7-CBF5CB1D5E0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7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often used in hacking</a:t>
            </a:r>
            <a:endParaRPr b="0" lang="en-US" sz="22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ll and ask for passwords and other confidential information</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ail attack messages with attractive subjects</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iggyback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houlder surf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etext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tc.</a:t>
            </a:r>
            <a:endParaRPr b="0" lang="en-US" sz="20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successful because it focuses on human weaknesses instead of technological weakness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7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B6C3-A463-4818-992E-15C8A5595DF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79" name=""/>
          <p:cNvSpPr txBox="1"/>
          <p:nvPr/>
        </p:nvSpPr>
        <p:spPr>
          <a:xfrm>
            <a:off x="457200" y="1722600"/>
            <a:ext cx="8229600" cy="45259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DoS) Attack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ke a server or entire network unavailable to legitimate us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ically send a flood of attack messages to the victim</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tributed DoS (DDoS) Attacks (Figure 1-11)</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ots flood the victim with attack pack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er controls the bot</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YN Messag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39A3-C51F-4393-8535-380B4072931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44440"/>
            <a:ext cx="815328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1: Distributed Denial-of-Service (DDoS) Flooding Attack</a:t>
            </a:r>
            <a:endParaRPr b="0" lang="en-US" sz="4300" spc="-1" strike="noStrike">
              <a:solidFill>
                <a:srgbClr val="404040"/>
              </a:solidFill>
              <a:latin typeface="Calisto MT"/>
            </a:endParaRPr>
          </a:p>
        </p:txBody>
      </p:sp>
      <p:sp>
        <p:nvSpPr>
          <p:cNvPr id="88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BA2A-C690-4CB5-A4A2-BFA97D40998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85" name="Picture 14" descr="S2C01F12 DDOS Attack"/>
          <p:cNvPicPr/>
          <p:nvPr/>
        </p:nvPicPr>
        <p:blipFill>
          <a:blip r:embed="rId2"/>
          <a:stretch/>
        </p:blipFill>
        <p:spPr>
          <a:xfrm>
            <a:off x="152280" y="1600200"/>
            <a:ext cx="8763120" cy="4290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87"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ot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pdatable attack programs (Figure 1-12)</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software to change the type of attack the bot can do</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sell or lease the botnet to other criminal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bot to fix bug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net Search</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010F-42AE-402F-AA3F-8B6D26D8595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80880" y="244080"/>
            <a:ext cx="78645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2: Fixing and Updating Bots</a:t>
            </a:r>
            <a:endParaRPr b="0" lang="en-US" sz="4300" spc="-1" strike="noStrike">
              <a:solidFill>
                <a:srgbClr val="404040"/>
              </a:solidFill>
              <a:latin typeface="Calisto MT"/>
            </a:endParaRPr>
          </a:p>
        </p:txBody>
      </p:sp>
      <p:sp>
        <p:nvSpPr>
          <p:cNvPr id="89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815B-A4E3-4DE8-A72A-BA631579B71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93" name="Picture 15" descr="S2C01F13 Botnet"/>
          <p:cNvPicPr/>
          <p:nvPr/>
        </p:nvPicPr>
        <p:blipFill>
          <a:blip r:embed="rId2"/>
          <a:stretch/>
        </p:blipFill>
        <p:spPr>
          <a:xfrm>
            <a:off x="76320" y="1676520"/>
            <a:ext cx="8839080" cy="426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95" name=""/>
          <p:cNvSpPr txBox="1"/>
          <p:nvPr/>
        </p:nvSpPr>
        <p:spPr>
          <a:xfrm>
            <a:off x="457200" y="175248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kill Level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are characterized by strong technical skills and dogged persisten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create hacker scripts to automate some of their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cripts are also available for writing viruses and other malicious softwa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9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B7FB-52D0-48F3-96F8-CC84BB6FA87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99" name=""/>
          <p:cNvSpPr txBox="1"/>
          <p:nvPr/>
        </p:nvSpPr>
        <p:spPr>
          <a:xfrm>
            <a:off x="457200" y="1828800"/>
            <a:ext cx="8229600" cy="449568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Calisto MT"/>
              </a:rPr>
              <a:t>Skill Levels</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use these scripts to make attack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have low technical skill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are dangerous because of their large number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Metasploit</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a:t>
            </a:r>
            <a:r>
              <a:rPr b="0" lang="en-US" sz="1500" spc="-1" strike="noStrike">
                <a:solidFill>
                  <a:srgbClr val="404040"/>
                </a:solidFill>
                <a:latin typeface="Calisto MT"/>
              </a:rPr>
              <a:t>The Metasploit® Framework is a free, open source penetration testing solution developed by the open source community and Rapid7. It is the de-facto standard for penetration testing with more than one million unique downloads per year and the world’s largest, public database of quality assured exploits.”</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Spyeye</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a:t>
            </a:r>
            <a:r>
              <a:rPr b="0" lang="en-US" sz="1500" spc="-1" strike="noStrike">
                <a:solidFill>
                  <a:srgbClr val="404040"/>
                </a:solidFill>
                <a:latin typeface="Calisto MT"/>
              </a:rPr>
              <a:t>It's been about a week since the keys to accessing SpyEye were publicly disclosed. So far 14 cyber-rings have taken advantage, using SpyEye to send commands to tens of thousands of infected PCs in the U.S. and Europe, according to Damballa research findings.In the first six months of the year, SpyEye was being used by 29 elite gangs that collectively commanded at least 2.2 million infected PCs worldwide. SpyEye normally sells for up to $10,000. But, as of last week, the latest, most powerful version of SpyEye could be acquired for just $95, Bodmer says.”</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p:txBody>
      </p:sp>
      <p:sp>
        <p:nvSpPr>
          <p:cNvPr id="90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0896-6D03-4145-A1CE-BA4100D6715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3"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Criminal Er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day, </a:t>
            </a:r>
            <a:r>
              <a:rPr b="0" i="1" lang="en-US" sz="2200" spc="-1" strike="noStrike">
                <a:solidFill>
                  <a:srgbClr val="404040"/>
                </a:solidFill>
                <a:latin typeface="Calisto MT"/>
              </a:rPr>
              <a:t>most</a:t>
            </a:r>
            <a:r>
              <a:rPr b="0" lang="en-US" sz="2200" spc="-1" strike="noStrike">
                <a:solidFill>
                  <a:srgbClr val="404040"/>
                </a:solidFill>
                <a:latin typeface="Calisto MT"/>
              </a:rPr>
              <a:t> attackers are career criminals with traditional criminal motiv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dapt traditional criminal attack strategies to IT attacks (fraud,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0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E390-A958-40DF-9345-A67A623E75D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Criminal Er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ny cybercrime gangs are international</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kes prosecution difficul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upe citizens of a country into being transshippers of fraudulently purchased goods to the attacker in another country</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ybercriminals use black market forum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redit card numbers and identity informa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Vulnerabilitie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xploit software (often with update contracts)</a:t>
            </a:r>
            <a:endParaRPr b="0" lang="en-US" sz="2000" spc="-1" strike="noStrike">
              <a:solidFill>
                <a:srgbClr val="404040"/>
              </a:solidFill>
              <a:latin typeface="Calisto MT"/>
            </a:endParaRPr>
          </a:p>
        </p:txBody>
      </p:sp>
      <p:sp>
        <p:nvSpPr>
          <p:cNvPr id="90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D376-03C5-48DF-BB7F-D26990ED41B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25" name=""/>
          <p:cNvSpPr txBox="1"/>
          <p:nvPr/>
        </p:nvSpPr>
        <p:spPr>
          <a:xfrm>
            <a:off x="457200" y="1752480"/>
            <a:ext cx="312408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curity Goal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I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Calisto MT"/>
              </a:rPr>
              <a:t>Confidentiality, Availability, Integrity</a:t>
            </a:r>
            <a:endParaRPr b="0" lang="en-US" sz="2200" spc="-1" strike="noStrike">
              <a:solidFill>
                <a:srgbClr val="404040"/>
              </a:solidFill>
              <a:latin typeface="Calisto MT"/>
            </a:endParaRPr>
          </a:p>
        </p:txBody>
      </p:sp>
      <p:sp>
        <p:nvSpPr>
          <p:cNvPr id="72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1299-90BC-47D1-8115-90E08FDB513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28" name="Diagram 6" descr=""/>
          <p:cNvPicPr/>
          <p:nvPr/>
        </p:nvPicPr>
        <p:blipFill>
          <a:blip r:embed="rId2"/>
          <a:stretch/>
        </p:blipFill>
        <p:spPr>
          <a:xfrm>
            <a:off x="3578400" y="1809720"/>
            <a:ext cx="5187600" cy="3792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1"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raud</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 fraud, the attacker deceives the victim into doing something against the victim’s financial self-interes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riminals are learning to conduct traditional frauds and new frauds over networ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new types of fraud, such as click fraud</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E824-F68B-4215-A0EC-901D97F4672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5"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inancial and Intellectual Proper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money or intellectual property they can sell to other criminals or to competito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xtortion</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reaten a DoS attack or threaten to release stolen information unless the victim pays the attack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F758-0BAB-4317-A8C5-875BFD7A343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44440"/>
            <a:ext cx="8077320" cy="1339920"/>
          </a:xfrm>
          <a:prstGeom prst="rect">
            <a:avLst/>
          </a:prstGeom>
          <a:noFill/>
          <a:ln w="0">
            <a:noFill/>
          </a:ln>
        </p:spPr>
        <p:txBody>
          <a:bodyPr anchor="ctr">
            <a:noAutofit/>
          </a:bodyPr>
          <a:p>
            <a:pPr marL="24161760" indent="0" algn="ctr">
              <a:buNone/>
              <a:tabLst>
                <a:tab algn="l" pos="0"/>
              </a:tabLst>
            </a:pPr>
            <a:r>
              <a:rPr b="0" lang="en-US" sz="2500" spc="-1" strike="noStrike">
                <a:solidFill>
                  <a:srgbClr val="000000"/>
                </a:solidFill>
                <a:latin typeface="Calisto MT"/>
              </a:rPr>
              <a:t>Fata System Error, The Hunt for the New Crime Lords bringing down the Internet by Joseph Menn</a:t>
            </a:r>
            <a:br>
              <a:rPr sz="2500"/>
            </a:br>
            <a:endParaRPr b="0" lang="en-US" sz="2500" spc="-1" strike="noStrike">
              <a:solidFill>
                <a:srgbClr val="404040"/>
              </a:solidFill>
              <a:latin typeface="Calisto MT"/>
            </a:endParaRPr>
          </a:p>
        </p:txBody>
      </p:sp>
      <p:sp>
        <p:nvSpPr>
          <p:cNvPr id="919"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on Best Sports, Las Vegas Oddsmake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r>
              <a:rPr b="0" lang="en-US" sz="2200" spc="-1" strike="noStrike">
                <a:solidFill>
                  <a:srgbClr val="404040"/>
                </a:solidFill>
                <a:latin typeface="Calisto MT"/>
              </a:rPr>
              <a:t>A hacker had taken control of the company’s database of customers – 1,647 names of hard-core gamblers and betting companies, along with their credit card numbers – and encrypted it.  A follow-up email promised that Don Best could have its system back for $200,000”</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20"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1"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3BF1-3079-43F6-BB8F-0F46374C139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3"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tealing Sensitive Data about Customers and Employe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ding (credit card number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n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ine stoc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dentity thef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teal enough identity information to represent the victim in large transactions, such as buying a car or even a house</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0E0E-7586-4924-B559-E4B08AD179B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7" name=""/>
          <p:cNvSpPr txBox="1"/>
          <p:nvPr/>
        </p:nvSpPr>
        <p:spPr>
          <a:xfrm>
            <a:off x="457200" y="1980720"/>
            <a:ext cx="8229600" cy="40258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rporate Identi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the identity of an entir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ccept credit cards on behalf of th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etend to be the corporation in large transaction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even take ownership of the corporation</a:t>
            </a:r>
            <a:endParaRPr b="0" lang="en-US" sz="2200" spc="-1" strike="noStrike">
              <a:solidFill>
                <a:srgbClr val="404040"/>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4C95-BE0C-480F-B744-6925F771A8B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1"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confidentia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ublic information gathering</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mpany website and public documen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Facebook pages of employees, etc.</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espionag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only be litigated if a company has provided reasonable protection for those secr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asonableness reflects the sensitivity of the secret and industry security practice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20BA-CC96-4FC9-BA50-7F1391BB009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5"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theft approach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ft through interception, hacking, and other traditional cybercrime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ribe an employe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ire your ex-employee and soliciting or accept trade secret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ational intelligence agencies engage in commercial espionag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EBB7-B507-4ECA-9ADA-C8BFC3D9ECD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9"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Attacks by Competito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avail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are but can be devastating</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4595-C4C6-4A4E-B94E-E29CA3F76A5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5: Cyberwar and Cyberterror</a:t>
            </a:r>
            <a:endParaRPr b="0" lang="en-US" sz="4300" spc="-1" strike="noStrike">
              <a:solidFill>
                <a:srgbClr val="404040"/>
              </a:solidFill>
              <a:latin typeface="Calisto MT"/>
            </a:endParaRPr>
          </a:p>
        </p:txBody>
      </p:sp>
      <p:sp>
        <p:nvSpPr>
          <p:cNvPr id="943"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 and 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national governments (cyberwar) - Stuxne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organized terrorists (cyberterro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otential for far greater attacks than those caused by criminal attacke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2F6B-3B28-42EE-B045-14461F73580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5: Cyberwar and Cyberterror</a:t>
            </a:r>
            <a:endParaRPr b="0" lang="en-US" sz="4300" spc="-1" strike="noStrike">
              <a:solidFill>
                <a:srgbClr val="404040"/>
              </a:solidFill>
              <a:latin typeface="Calisto MT"/>
            </a:endParaRPr>
          </a:p>
        </p:txBody>
      </p:sp>
      <p:sp>
        <p:nvSpPr>
          <p:cNvPr id="94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based attacks by national governments </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spion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yber-only attacks to damage financial and communication infrastructu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 augment conventional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 IT infrastructure along with physical attacks (or in place of physical attack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ralyze enemy command and control</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ngage in propaganda attacks</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7C78-4D1B-41C9-A9CE-21AB43B38EE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CIA</a:t>
            </a:r>
            <a:endParaRPr b="0" lang="en-US" sz="4300" spc="-1" strike="noStrike">
              <a:solidFill>
                <a:srgbClr val="404040"/>
              </a:solidFill>
              <a:latin typeface="Calisto MT"/>
            </a:endParaRPr>
          </a:p>
        </p:txBody>
      </p:sp>
      <p:sp>
        <p:nvSpPr>
          <p:cNvPr id="730" name=""/>
          <p:cNvSpPr txBox="1"/>
          <p:nvPr/>
        </p:nvSpPr>
        <p:spPr>
          <a:xfrm>
            <a:off x="380880" y="1752120"/>
            <a:ext cx="8382240" cy="4496040"/>
          </a:xfrm>
          <a:prstGeom prst="rect">
            <a:avLst/>
          </a:prstGeom>
          <a:noFill/>
          <a:ln w="0">
            <a:noFill/>
          </a:ln>
        </p:spPr>
        <p:txBody>
          <a:bodyPr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nfidentiality</a:t>
            </a:r>
            <a:endParaRPr b="0" lang="en-US" sz="22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nformation is protected from exposure to unauthorized users</a:t>
            </a:r>
            <a:endParaRPr b="0" lang="en-US" sz="2000" spc="-1" strike="noStrike">
              <a:solidFill>
                <a:srgbClr val="404040"/>
              </a:solidFill>
              <a:latin typeface="Calisto MT"/>
            </a:endParaRPr>
          </a:p>
          <a:p>
            <a:pPr lvl="2" marL="759600" indent="-21456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Within a computer system or</a:t>
            </a:r>
            <a:endParaRPr b="0" lang="en-US" sz="1900" spc="-1" strike="noStrike">
              <a:solidFill>
                <a:srgbClr val="404040"/>
              </a:solidFill>
              <a:latin typeface="Calisto MT"/>
            </a:endParaRPr>
          </a:p>
          <a:p>
            <a:pPr lvl="2" marL="759600" indent="-21456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When traveling across a network</a:t>
            </a:r>
            <a:endParaRPr b="0" lang="en-US" sz="1900" spc="-1" strike="noStrike">
              <a:solidFill>
                <a:srgbClr val="404040"/>
              </a:solidFill>
              <a:latin typeface="Calisto MT"/>
            </a:endParaRPr>
          </a:p>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tegrity</a:t>
            </a:r>
            <a:endParaRPr b="0" lang="en-US" sz="22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nformation can not be changed</a:t>
            </a:r>
            <a:endParaRPr b="0" lang="en-US" sz="20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f Information is changed, the change can be identified and removed (i.e. information restored)</a:t>
            </a:r>
            <a:endParaRPr b="0" lang="en-US" sz="2000" spc="-1" strike="noStrike">
              <a:solidFill>
                <a:srgbClr val="404040"/>
              </a:solidFill>
              <a:latin typeface="Calisto MT"/>
            </a:endParaRPr>
          </a:p>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vailability</a:t>
            </a:r>
            <a:endParaRPr b="0" lang="en-US" sz="22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vailability means that people who are authorized to use information receive it without interference or obstruction in the format required</a:t>
            </a:r>
            <a:endParaRPr b="0" lang="en-US" sz="2000" spc="-1" strike="noStrike">
              <a:solidFill>
                <a:srgbClr val="404040"/>
              </a:solidFill>
              <a:latin typeface="Calisto MT"/>
            </a:endParaRPr>
          </a:p>
          <a:p>
            <a:pPr marL="322200" indent="-322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sto MT"/>
            </a:endParaRPr>
          </a:p>
        </p:txBody>
      </p:sp>
      <p:sp>
        <p:nvSpPr>
          <p:cNvPr id="731"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2"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48C7-68E1-44C7-AD6F-CB270CAD36B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5: Cyberwar and Cyberterror</a:t>
            </a:r>
            <a:endParaRPr b="0" lang="en-US" sz="4300" spc="-1" strike="noStrike">
              <a:solidFill>
                <a:srgbClr val="404040"/>
              </a:solidFill>
              <a:latin typeface="Calisto MT"/>
            </a:endParaRPr>
          </a:p>
        </p:txBody>
      </p:sp>
      <p:sp>
        <p:nvSpPr>
          <p:cNvPr id="951"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terrorists or terrorist group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y attack IT resources direct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for recruitment and coordin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to augment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isrupt communication among first responders </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Use cyberattacks to increase terror in physical attack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urn to computer crime to fund their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5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5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16DB-3414-4FDF-B00B-FE5925E0D11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14040" y="1123560"/>
            <a:ext cx="7342200" cy="192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Calisto MT"/>
              </a:rPr>
              <a:t>The End</a:t>
            </a:r>
            <a:endParaRPr b="0" lang="en-US" sz="5400" spc="-1" strike="noStrike">
              <a:solidFill>
                <a:srgbClr val="404040"/>
              </a:solidFill>
              <a:latin typeface="Calisto MT"/>
            </a:endParaRPr>
          </a:p>
        </p:txBody>
      </p:sp>
      <p:sp>
        <p:nvSpPr>
          <p:cNvPr id="955" name="Slide Number Placeholder 3"/>
          <p:cNvSpPr/>
          <p:nvPr/>
        </p:nvSpPr>
        <p:spPr>
          <a:xfrm>
            <a:off x="4191120" y="612288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1D5E-A63F-4700-8BC0-DD259368E3A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7" name="Picture 3" descr="cid:3287383400_2177562"/>
          <p:cNvPicPr/>
          <p:nvPr/>
        </p:nvPicPr>
        <p:blipFill>
          <a:blip r:embed="rId2"/>
          <a:stretch/>
        </p:blipFill>
        <p:spPr>
          <a:xfrm>
            <a:off x="1066680" y="380880"/>
            <a:ext cx="7242120" cy="2363760"/>
          </a:xfrm>
          <a:prstGeom prst="rect">
            <a:avLst/>
          </a:prstGeom>
          <a:ln w="9360">
            <a:solidFill>
              <a:srgbClr val="ffffff"/>
            </a:solidFill>
            <a:miter/>
          </a:ln>
        </p:spPr>
      </p:pic>
      <p:sp>
        <p:nvSpPr>
          <p:cNvPr id="958" name="Rectangle 4"/>
          <p:cNvSpPr/>
          <p:nvPr/>
        </p:nvSpPr>
        <p:spPr>
          <a:xfrm>
            <a:off x="685800" y="289656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959" name="Rectangle 5"/>
          <p:cNvSpPr/>
          <p:nvPr/>
        </p:nvSpPr>
        <p:spPr>
          <a:xfrm>
            <a:off x="762120" y="4267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34"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promi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uccessful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inciden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breaches (not breech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7566-2EC6-4862-939C-845C95A89D8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3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untermeasur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ols used to thwart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safeguards, protections, and contro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es of countermeasur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eventa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Keep the attack from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et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Identify when an attack is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rr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Repair system after attack</a:t>
            </a:r>
            <a:endParaRPr b="0" lang="en-US" sz="18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0DC9-CE02-4094-9175-7AD970BC0BB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Security</a:t>
            </a:r>
            <a:endParaRPr b="0" lang="en-US" sz="4800" spc="-1" strike="noStrike">
              <a:solidFill>
                <a:srgbClr val="404040"/>
              </a:solidFill>
              <a:latin typeface="Calisto MT"/>
            </a:endParaRPr>
          </a:p>
        </p:txBody>
      </p:sp>
      <p:sp>
        <p:nvSpPr>
          <p:cNvPr id="742" name=""/>
          <p:cNvSpPr txBox="1"/>
          <p:nvPr/>
        </p:nvSpPr>
        <p:spPr>
          <a:xfrm>
            <a:off x="380520" y="1980720"/>
            <a:ext cx="397692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ommittee on National Security Systems (CN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r>
              <a:rPr b="0" lang="en-US" sz="2200" spc="-1" strike="noStrike">
                <a:solidFill>
                  <a:srgbClr val="404040"/>
                </a:solidFill>
                <a:latin typeface="Calisto MT"/>
              </a:rPr>
              <a:t>the protection of information and its critical elements, including the systems and hardware that use, store, and transmit that information”</a:t>
            </a:r>
            <a:endParaRPr b="0" lang="en-US" sz="2200" spc="-1" strike="noStrike">
              <a:solidFill>
                <a:srgbClr val="404040"/>
              </a:solidFill>
              <a:latin typeface="Calisto MT"/>
            </a:endParaRPr>
          </a:p>
        </p:txBody>
      </p:sp>
      <p:sp>
        <p:nvSpPr>
          <p:cNvPr id="74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0AF2-D9FF-4CD3-A087-16419338B2B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45" name="Picture 5" descr=""/>
          <p:cNvPicPr/>
          <p:nvPr/>
        </p:nvPicPr>
        <p:blipFill>
          <a:blip r:embed="rId2"/>
          <a:stretch/>
        </p:blipFill>
        <p:spPr>
          <a:xfrm>
            <a:off x="4952880" y="1828800"/>
            <a:ext cx="3897360" cy="3759120"/>
          </a:xfrm>
          <a:prstGeom prst="rect">
            <a:avLst/>
          </a:prstGeom>
          <a:ln w="0">
            <a:noFill/>
          </a:ln>
        </p:spPr>
      </p:pic>
      <p:sp>
        <p:nvSpPr>
          <p:cNvPr id="746" name="TextBox 6"/>
          <p:cNvSpPr/>
          <p:nvPr/>
        </p:nvSpPr>
        <p:spPr>
          <a:xfrm>
            <a:off x="5257800" y="563868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umber Cube 3x3x3 27 addressable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4:27:38Z</dcterms:created>
  <dc:creator>Panko</dc:creator>
  <dc:description/>
  <dc:language>en-US</dc:language>
  <cp:lastModifiedBy>Steven Hornik</cp:lastModifiedBy>
  <dcterms:modified xsi:type="dcterms:W3CDTF">2011-09-08T18:04:39Z</dcterms:modified>
  <cp:revision>205</cp:revision>
  <dc:subject/>
  <dc:title>Wide Area Networks (WANs)</dc:title>
</cp:coreProperties>
</file>